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B6A7-4D45-4890-AF0F-F6DA023EA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53BE-6D51-491C-92E9-C0310CB4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B65F-61D4-43F3-8CE7-FB0CBDFB4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70BE-245E-4A2B-B07C-BE8CBF874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1967-8A14-4BE3-8B2E-7D81AB20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37C0-FA43-4EAD-B856-305CC0C5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CBF4-AEEF-452E-9E39-664F1131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B299-51CE-4912-B0CB-27273DE1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0E63-ACE3-499E-9C53-14F94F84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5E7E-0B79-43F2-B15A-EE112596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5272-1D87-41B6-9109-9028003C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C7C2-F03E-4968-B0B1-FC9C4C7A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CE52-FDE8-4C98-95C6-8949A278403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C4F6-0D0C-4BB3-B203-3E9EAED85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Grafik 1" descr=""/>
          <p:cNvPicPr/>
          <p:nvPr/>
        </p:nvPicPr>
        <p:blipFill>
          <a:blip r:embed="rId2"/>
          <a:stretch/>
        </p:blipFill>
        <p:spPr>
          <a:xfrm>
            <a:off x="611280" y="6524640"/>
            <a:ext cx="419040" cy="14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0C9D-8D5B-4E10-8E7B-CB11F6573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elle Programmierspr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wickelt im Medien-Labor des 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0995-1BB3-47D7-B7AA-3CECF6F9763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FFB9D9-1D03-4F85-A333-9C1FAC2EEA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bständige Üb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rbeitsblatt „AB2.2 Muster zeichnen.pdf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96F6-B832-4D37-AB65-5D24EFF5B7C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561FBE-397E-4053-8FCA-43FCBDAAA3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927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Kostüme-T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50920" y="1341360"/>
            <a:ext cx="3516480" cy="4608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588000" y="2060640"/>
            <a:ext cx="17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n können ihr Aussehen änd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B5F0-AECD-4844-819C-EFB9135ED3F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333FB1-02C7-4FD8-B22B-08B44B3DF8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Klänge-T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5399280" cy="3844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588000" y="2060640"/>
            <a:ext cx="17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n können Klänge abspie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7B49-C54E-437D-A30F-0693E971AC4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64E122-4602-4156-9FC8-A2D9AC4DE5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ispiel Kostüme + Klä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kt „Kostüme+Klänge.sb2“ vorfüh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ostüme erstellen, ändern, im Skript verwenden; Klänge im Skript einfüg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75B4-7A6E-478E-9676-782CD8F3CC0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89C569-AF37-4A89-A068-D76B49FFEE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408720" cy="865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as erste Spiel -&gt;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64000" y="1267920"/>
            <a:ext cx="353880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el für einen Spieler (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 bewegt sich auf dem Spielfeld und prallt am Rand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. bewegt horizontal mit der Maus einen Schläger, um zu verhindern, dass der Ball den unteren Rand berüh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4638600" cy="34671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050920" y="3645000"/>
            <a:ext cx="576360" cy="4284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2987640" y="2492280"/>
            <a:ext cx="576360" cy="428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flipH="1">
            <a:off x="468360" y="1628640"/>
            <a:ext cx="2448000" cy="122400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468360" y="2852640"/>
            <a:ext cx="1800000" cy="100800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339640" y="2852640"/>
            <a:ext cx="863640" cy="100800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547640" y="1844640"/>
            <a:ext cx="503280" cy="28908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411280" y="3068280"/>
            <a:ext cx="360360" cy="43164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556000" y="3933720"/>
            <a:ext cx="3240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492360" y="4724280"/>
            <a:ext cx="2232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0B8A-8746-49C9-91D7-7446DE90CBF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BA6697-BFD0-4A59-9167-19225B689A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-Projekt für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rbereitung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tzenfigur lös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ühne vorbereiten -&gt; am unteren Rand dünnes farbiges Rechteck zeich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läger und Ball ergän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l -&gt; aus der Figurenbibliothek hinzufü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läger -&gt; neue Figur zeichnen (ausgefülltes Rechteck; Drehpunkt in die Mitte des Rechtecks setzen; y-Koordinate ungefähr -1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C715-8C93-48C8-9EAD-3C86A3994FD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F41275-C27E-48D1-934A-7D052EEC9A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13916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ripte zur Bewegung der Figuren ergänz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ript für die Schläger-Figu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-Projekt für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5714" r="0" b="0"/>
          <a:stretch/>
        </p:blipFill>
        <p:spPr>
          <a:xfrm>
            <a:off x="1547640" y="3284640"/>
            <a:ext cx="3313440" cy="1911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840200" y="330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08720" y="3429000"/>
            <a:ext cx="30956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Schläger ist zu Beginn an der Position (0;-12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ch die Bewegung der Maus kann der Schläger nach links und rechts verschoben w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3A7D-8EEA-405B-B899-7EF96A744BC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338488-5564-4674-A4A5-EB840D83B2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4896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ript für die Ball-Figu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-Projekt für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4392720" cy="4174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92720" y="2205000"/>
            <a:ext cx="3456000" cy="36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all startet bei der Position (0;160) mit einer zufällig gewählten Richtung zwischen 135° und 225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all bewegt sich fortlaufend um 5 Schritte und prallt nach einiger Zeit vom Rand a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der Schläger berührt, so wird die Bewegungsrichtung auf einen Wert zwischen -30° und 30° gesetzt und es ertönt ein Aufprallt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ällt der Ball nach unten, also berührt den farbigen Streifen, so hält das Programm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9683-C97E-4345-8199-342742FCE3E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AF7120-430A-44E4-987F-3CC1AAA266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ähler einbauen für die Anzahl der „Rückschläge“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riabl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rwe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-Projekt für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35AC-4BEF-40BA-A054-CFF5EB78B68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B2E38C-3BB8-4D6D-A862-572B026A81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00360" y="1628280"/>
            <a:ext cx="41972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altfläche „Dat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tton „Neue Variable“ anklicken und Variablennamen festl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ariable kann jetzt im Skript verwende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3203640" cy="3384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flipH="1">
            <a:off x="1835280" y="1773360"/>
            <a:ext cx="2665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195280" y="2349360"/>
            <a:ext cx="266364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9979-4E66-4C32-8E8F-C328A7E7AF8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30ADCA-29B8-4605-88C5-F99B9C5394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ußzeilenplatzhalt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CC BY-SA 3.0 DE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. Bir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AFA4-0503-4AB9-A3F6-6553AA7A7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1516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ipt -&gt; Stapel aus Programmierblöc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3095640" cy="160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4427640" y="2349360"/>
            <a:ext cx="3809880" cy="12290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4500720" y="378936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M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M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M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Gerade Verbindung mit Pfeil 2"/>
          <p:cNvCxnSpPr/>
          <p:nvPr/>
        </p:nvCxnSpPr>
        <p:spPr>
          <a:xfrm flipH="1">
            <a:off x="1978920" y="1413000"/>
            <a:ext cx="432360" cy="72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B5EF-9204-41E1-B541-2D51DB3F688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22007C-A5CD-4EA3-906E-E318E9228E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5843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ändertes Skript für den 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3933720" cy="4465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356000" y="2060640"/>
            <a:ext cx="462924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4788000" y="1197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ählvariable erscheint links oben auf der Büh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643280" y="1484280"/>
            <a:ext cx="216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0262-5153-4BEC-A829-7392D90350B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145F78-0731-400A-9D2E-F10D653487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Rechnen in Scr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987640" y="2349360"/>
            <a:ext cx="2736720" cy="1406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012000" y="2276640"/>
            <a:ext cx="2665440" cy="1515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916360" y="17002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kennst du ein Muster in diesen Produkt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40360" y="177336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hnen mit Res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3059280" y="4508640"/>
            <a:ext cx="3960720" cy="15350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987640" y="4076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fallszah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468360" y="1197000"/>
            <a:ext cx="2163600" cy="525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87C4-B0B0-4FD5-99D4-49C39AE7A0C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8EBAD3-8AFB-4C55-8D65-B31584DEA8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chempfehlu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Programmieren supereasy: Einfacher Einstieg in SCRATCH und PYTHON“,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ISBN 978-3-8310-2700-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Programmieren mit Scratch – Arbeitsheft“, Herdt-Verlag,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ISBN 978-3-86249-239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„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Learn to program with Scratch“, ISBN 978-1-59327-543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76E7-6575-468C-BA65-71720B051B4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882859-58E8-41AC-9C56-29B64D57B3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liennummernplatzhalter 5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66A2-0BFD-4C55-91DF-753BFA3FA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684360" y="404640"/>
            <a:ext cx="5903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cratch Programmierumgeb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>
            <a:alphaModFix amt="0"/>
          </a:blip>
          <a:srcRect l="-5" t="-7" r="-5" b="-7"/>
          <a:stretch/>
        </p:blipFill>
        <p:spPr>
          <a:xfrm>
            <a:off x="826920" y="1700280"/>
            <a:ext cx="6337440" cy="42400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7164360" y="1844640"/>
            <a:ext cx="16556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Büh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Objektlis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Block-Palet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Script-Fe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1619280" y="1844640"/>
            <a:ext cx="1440000" cy="2872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AutoShape 10"/>
          <p:cNvCxnSpPr/>
          <p:nvPr/>
        </p:nvCxnSpPr>
        <p:spPr>
          <a:xfrm flipV="1" rot="10800000">
            <a:off x="2123280" y="1196640"/>
            <a:ext cx="648360" cy="596160"/>
          </a:xfrm>
          <a:prstGeom prst="bentConnector2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58" name="Text Box 11"/>
          <p:cNvSpPr/>
          <p:nvPr/>
        </p:nvSpPr>
        <p:spPr>
          <a:xfrm>
            <a:off x="2700360" y="981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u-Bal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3924360" y="1844640"/>
            <a:ext cx="1008000" cy="2872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AutoShape 13"/>
          <p:cNvCxnSpPr/>
          <p:nvPr/>
        </p:nvCxnSpPr>
        <p:spPr>
          <a:xfrm flipV="1" rot="10800000">
            <a:off x="4426920" y="1196640"/>
            <a:ext cx="648360" cy="596160"/>
          </a:xfrm>
          <a:prstGeom prst="bentConnector2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61" name="Text Box 14"/>
          <p:cNvSpPr/>
          <p:nvPr/>
        </p:nvSpPr>
        <p:spPr>
          <a:xfrm>
            <a:off x="5076720" y="1052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sor-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lipse 1"/>
          <p:cNvSpPr/>
          <p:nvPr/>
        </p:nvSpPr>
        <p:spPr>
          <a:xfrm>
            <a:off x="1403280" y="1844640"/>
            <a:ext cx="216000" cy="287280"/>
          </a:xfrm>
          <a:prstGeom prst="ellipse">
            <a:avLst/>
          </a:prstGeom>
          <a:noFill/>
          <a:ln w="507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Gerade Verbindung mit Pfeil 3"/>
          <p:cNvCxnSpPr>
            <a:endCxn id="62" idx="0"/>
          </p:cNvCxnSpPr>
          <p:nvPr/>
        </p:nvCxnSpPr>
        <p:spPr>
          <a:xfrm>
            <a:off x="1510920" y="1347840"/>
            <a:ext cx="1080" cy="497520"/>
          </a:xfrm>
          <a:prstGeom prst="straightConnector1">
            <a:avLst/>
          </a:prstGeom>
          <a:ln w="31680">
            <a:solidFill>
              <a:srgbClr val="72bfc5"/>
            </a:solidFill>
            <a:miter/>
            <a:tailEnd len="med" type="arrow" w="med"/>
          </a:ln>
        </p:spPr>
      </p:cxnSp>
      <p:sp>
        <p:nvSpPr>
          <p:cNvPr id="64" name="Textfeld 4"/>
          <p:cNvSpPr/>
          <p:nvPr/>
        </p:nvSpPr>
        <p:spPr>
          <a:xfrm>
            <a:off x="709560" y="9414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ache änd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AC45-EFE7-46BE-82E1-7B6CA5E9EC1C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587316-4CF0-4D3A-AE99-B4D9952651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F388-AF28-40BF-8582-130371CE8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324000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Büh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12000" y="1557360"/>
            <a:ext cx="2674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Bühne ist wie eine Koordinaten-Ebene mit Punkte (0;0) im Mittelpunk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wegung des Maus-Cursors zeigt die Koordinaten (x;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5616360" cy="4243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4932360" y="5734080"/>
            <a:ext cx="1297080" cy="345960"/>
          </a:xfrm>
          <a:prstGeom prst="rect">
            <a:avLst/>
          </a:prstGeom>
          <a:ln w="0">
            <a:noFill/>
          </a:ln>
        </p:spPr>
      </p:pic>
      <p:sp>
        <p:nvSpPr>
          <p:cNvPr id="70" name="Line 6"/>
          <p:cNvSpPr/>
          <p:nvPr/>
        </p:nvSpPr>
        <p:spPr>
          <a:xfrm flipH="1">
            <a:off x="6084360" y="5157720"/>
            <a:ext cx="287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FDB0-BEEA-4D79-8EE1-3177BA6F20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6C63A1-CD28-4B41-B0AC-65BF644D75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013A-3DD7-4932-8E3C-9397F74EC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4686480" cy="40100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611280" y="620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äsentationsmod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116000" y="1197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k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3276720" y="765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üne Flagge -&gt; Start des Projek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6012000" y="17002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er Punkt -&gt; Projekt bee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 flipH="1">
            <a:off x="5364000" y="191628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>
            <a:off x="4932360" y="134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176364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1042920" y="981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92360" y="260280"/>
            <a:ext cx="360036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Büh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060D-EF68-4C5A-B4D3-3473F9C5248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84120B-5FC2-4FC2-9127-5739589B4E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023B-7470-402F-8888-E6A9DE907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1068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nli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116000" y="3141720"/>
            <a:ext cx="4638600" cy="16858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4500720" y="213372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 aus Bibliothek wäh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4932360" y="24922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e Figur zeich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7"/>
          <p:cNvSpPr/>
          <p:nvPr/>
        </p:nvSpPr>
        <p:spPr>
          <a:xfrm>
            <a:off x="4859280" y="2565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5076720" y="2852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5940360" y="321300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altfläche für Figur1 mit Button i (linke obere Ecke) für Figureigenschaf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042920" y="2349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altfläche für die Büh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1"/>
          <p:cNvSpPr/>
          <p:nvPr/>
        </p:nvSpPr>
        <p:spPr>
          <a:xfrm flipH="1">
            <a:off x="2555640" y="371628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5"/>
          <p:cNvSpPr/>
          <p:nvPr/>
        </p:nvSpPr>
        <p:spPr>
          <a:xfrm>
            <a:off x="1476360" y="2997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6"/>
          <p:cNvSpPr/>
          <p:nvPr/>
        </p:nvSpPr>
        <p:spPr>
          <a:xfrm>
            <a:off x="1116000" y="4365720"/>
            <a:ext cx="863640" cy="43164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7"/>
          <p:cNvSpPr/>
          <p:nvPr/>
        </p:nvSpPr>
        <p:spPr>
          <a:xfrm flipV="1">
            <a:off x="1547640" y="4797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8"/>
          <p:cNvSpPr/>
          <p:nvPr/>
        </p:nvSpPr>
        <p:spPr>
          <a:xfrm>
            <a:off x="906120" y="5157720"/>
            <a:ext cx="46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ton für die Erstellung neuer Bühnenbi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9" descr=""/>
          <p:cNvPicPr/>
          <p:nvPr/>
        </p:nvPicPr>
        <p:blipFill>
          <a:blip r:embed="rId2"/>
          <a:stretch/>
        </p:blipFill>
        <p:spPr>
          <a:xfrm>
            <a:off x="5651640" y="4581360"/>
            <a:ext cx="3335040" cy="1117800"/>
          </a:xfrm>
          <a:prstGeom prst="rect">
            <a:avLst/>
          </a:prstGeom>
          <a:ln w="0">
            <a:noFill/>
          </a:ln>
        </p:spPr>
      </p:pic>
      <p:sp>
        <p:nvSpPr>
          <p:cNvPr id="97" name="Line 20"/>
          <p:cNvSpPr/>
          <p:nvPr/>
        </p:nvSpPr>
        <p:spPr>
          <a:xfrm>
            <a:off x="7308720" y="4365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476E-75F8-419D-81E9-7CE7B1737A2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937375-4D13-4C7F-82B4-467F25867B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9DD4-D527-472C-A0DB-403687C35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erblöc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&gt; unterteilt in 10 Kategorien (Palett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116000" y="2205000"/>
            <a:ext cx="3241800" cy="22636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2195640" y="2349360"/>
            <a:ext cx="2160360" cy="3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76720" y="4149720"/>
            <a:ext cx="32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öc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rb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odiert zum leichten Auffinden verwandter Blöc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87280" y="4508640"/>
            <a:ext cx="2592720" cy="1288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H="1">
            <a:off x="3779640" y="4941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AC2A-80F8-48FE-BED3-C0E9EE3FE8C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CA29BC-89AF-4856-A522-0084B357C5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sbeispie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ratch-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tivationsbeispiel.sb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cratch – Hallo.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ze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64B2-8649-414B-8AB4-08C620F15BE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B0D6F8-E3DE-4955-96CD-C24FB4D41E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BE96-148C-4777-89CE-A44BC3CDA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bständige Üb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rbeitsblatt </a:t>
            </a:r>
            <a:br>
              <a:rPr sz="32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„AB1 Die Scratch-Programmierumgebung.pdf“ mit Datei „Einstiegsbeispiel.sb2“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adadad"/>
                </a:solidFill>
                <a:latin typeface="Arial"/>
              </a:rPr>
              <a:t>alternativ „AB1.2 Die Scratch-Programmierumgebung.pdf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8697-F6DB-4394-B728-B831A85BEE1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625E54-F763-4038-B86B-82E876AD72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0T16:43:43Z</dcterms:created>
  <dc:creator>G. Birke</dc:creator>
  <dc:description/>
  <dc:language>en-US</dc:language>
  <cp:lastModifiedBy>G. Birke</cp:lastModifiedBy>
  <dcterms:modified xsi:type="dcterms:W3CDTF">2017-09-24T16:55:15Z</dcterms:modified>
  <cp:revision>17</cp:revision>
  <dc:subject/>
  <dc:title>Scratch</dc:title>
</cp:coreProperties>
</file>